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6A2-71DC-4D6B-8AB7-D4C3948A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7CF-C644-43EB-8093-E6703F8D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186-174F-4837-B2F8-64F6A286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252-71D6-4DEB-BF78-68263EC9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A59-E14C-4F50-9142-900EC67E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688-2AC6-4622-AE2D-B39299F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0C5-4D33-47D8-84CE-F40D4DAB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7BE-7423-4F9B-98FD-8E25891C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AB9-D70F-409B-818F-E35C89D7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DAE-9F2A-4B93-898A-6313B3E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77D-4235-43BB-B7B0-275E582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2B8-7188-4794-974F-81C44A7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3555-2060-4BF3-8C62-F8B25F2B4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771480" y="-457200"/>
            <a:ext cx="106887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5:07:11Z</dcterms:created>
  <dc:creator>Julie</dc:creator>
  <dc:description/>
  <dc:language>en-US</dc:language>
  <cp:lastModifiedBy>Julie</cp:lastModifiedBy>
  <dcterms:modified xsi:type="dcterms:W3CDTF">2008-04-28T15:07:29Z</dcterms:modified>
  <cp:revision>1</cp:revision>
  <dc:subject/>
  <dc:title>Slide 1</dc:title>
</cp:coreProperties>
</file>